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EFC0-92D7-4DFF-8A7B-D8F726E5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6391-6DC2-4DA3-A3F9-DBCF6689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B77F-323B-4FD9-8387-B4D111737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8725-1447-4947-83FC-7A3E7B06E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1699-1FE5-4039-9F1D-63D124F52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78EA-6B46-4550-812B-DEF43EC5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1CB5-D5FD-4007-816E-DED59C8F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0106-7486-4724-A196-6E1A1BFF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EA36-6069-442A-8D82-5F325B40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4BA6-EB35-4F90-8AB2-25055729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3FB4-82DC-4018-8AE1-5EA5EB97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349C-C8F1-457E-8792-58E9BB90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73B3-8A5A-4E71-B388-CDA9300C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7158-1E24-40BA-B38E-C545EE65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00FB-7801-4938-9B33-761289D0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95DE-AE41-46C3-BE02-2972232A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74B5-50DD-4EBB-8035-DD4BDEB90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EB69-CDF2-4DEC-9236-D9AF66FE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AD8B-F3CA-4EE6-BEEB-BAF149D8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3FCC-D7E9-433D-9848-071EB6D6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729D-A71E-4759-B1A5-A715B610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A2EE-9142-49AE-854E-7AC7C559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24BC-F9A9-456B-802B-3060D3AA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3F5D-C02C-4132-B755-CA27C5D2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168C-2B72-43F3-B5EC-C696B411621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576B-9259-47CF-8F34-E6B0B0B4E74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16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ррекционно-педагогическое и социально-психологическое сопровождение обучающих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 задержкой психического разви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оспитательные задач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яют задачи формирования ценностного отношения к тому или иному предмету, явлению, совершенствования моделей поведения, овладения детьми коммуникативными умениями, развития социальной активности и т.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ррекционные задач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ко ориентируют педагога на развитие психических процессов, эмоционально-волевой сферы ребенка, на исправление и компенсацию имеющихся недостатков специальными педагогическими и психологическими прием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лжны быть предельно конкретными и направленными на активизацию тех психических функций, которые будут максимально задействованы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лизация коррекционных задач предполагает включение в урок специальных коррекционно-развивающих упражнений для совершенствования высших психических функций, эмоционально-волевой, познавательной сфер и пр., включение заданий с опорой на несколько анализаторов и п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72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определить коррекционные задач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 планировании уроков, индивидуальных и групповых занятий, проектировании программно-планирующей документации педагогу следует ответить на вопрос: «По каким направлениям будет проходить коррекционная работа на занятии в связи с изучаемым материалом?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72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мер постановк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ррекционных задач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 развивать (способствовать развитию) слуховое восприятие учащихся на основе упражнений в узнавании и соотнес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 корректировать зрительное восприятие на основе упражнений н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имер постановки коррекционных задач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уществлять коррекцию пространственного восприятия при соотнесении объемных геометрических тел и их контурных изображ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ствовать коррекции тонких дифференцированных движений пальцев рук при выкладывании вертикальных построек из палоче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ствовать развитию процессов памяти (узнавания) на основе использования различных анализатор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491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словия коррекционной рабо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чет социальной ситуации развития ребенка (круг общения, характер взаимоотношений в системе «взрослый-ребенок», «ребенок-ребенок»). Негативно влияют на развитие ребенка  дефицит общения, травмирующее действие социальной микросред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чет состояния здоровья (соматического и нервно-психического), повышенной утомляемости детей в процессе интеллектуальной деяте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менение широкой наглядности и словесной конкретизации общих положений с большим количеством упражнений, выполнение которых опирается на прямой показ приемов реш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дание должно быть умеренной трудности, но доступным, так как на первых этапах коррекционной работы необходимо обеспечить ученику субъективное переживание успеха на фоне определенной затраты усили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11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словия коррекционной рабо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степенное сокращение помощи со стороны и постепенное повышение трудности предлагаемых для решения зад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правленность на формирование ведущей деятельности, а также других, типичных для данного возраста видов деятельности. Негативно сказывается на развитии ребенка отсутствие полноценной, соответствующей его возрасту деятельности, которая обеспечивает «присвоение» и смену ведущего вида деятельности на каждом возрастном этап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ндивидуализация обучения, ориентированная на учете индивидуально-психологических особенностей ребен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словия коррекционной рабо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ажным является активное воздействие на умственное развитие детей, а не пассивное приспособление к слабым сторонам их психи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еткое преставление о том, какую функцию у ребенка следует развивать на уроке, индивидуальном коррекционном занят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ализация комплексного подхода в процессе коррекции психических процесс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истематическое отслеживание уровня развития психических процесс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26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сновные направления коррекционной рабо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ршенствование двигательной сферы и сенсомотор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рекция отдельных сторон психи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пространственных представ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основных мыслительных опер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различных видов 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рекция нарушений в развитии эмоционально-личностной 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речи, овладение техникой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ширение представлений об окружающем мире и обогащение слова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рекция индивидуальных пробелов в зн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186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вершенствование двигательной сферы и сенсомоторного разви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тие мелкой моторики кисти и пальцев ру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тие навыков каллиграф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тие артикуляционной мотори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тие зрительного анализа и пространственного восприятия элементов бук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тие тонкости и дифференцированности анализа зрительно воспринимаемых объек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тие умения организации и контроля простейших двигательных програм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словия успешности сопровождения обучающихся с задержкой психического разви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в образовательном учреждении системы психолого-педагогического сопров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дивидуальных особенностей обучающихся с задержкой психическ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уществление коррекционной работы средствами учебных дисциплин и силами узких специали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дение индивидуальных и групповых коррекционных занятий общеразвивающей и предметн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491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ррекционные прие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знавание контурных, силуэтных, перечеркнутых изображений, недорисованных предме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арные изображения (найди отличи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законченные изображения (дорисуй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игурно-фоновое различие предметов, бук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нализ сложного образ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хождения сходства и различия двух изображ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ановление соответствия фоновых элементов, узоров (игра «Подбери узор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членение зрительно воспринимаемого элемента буквы в фигурах сложной конфигур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хождение среди рядов повторяющихся фигур, букв их заданного сочетания; нахождение букв с заданным элемент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хождение заданного элемента в ряду бук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рисование фигур по точк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491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ррекция отдельных сторон психической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зрительного восприятия и узна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зрительной памяти и вни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обобщенных представлений о свойствах предметов (цвет, форма, велич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пространственных представлений и ори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представлений 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слухового внимания и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фонетико-фонематических представлений, формирование звукового 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72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ирование пространственных представл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ирование умения ориентировки в схеме собственного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ирование ориентировки в ближайшем окружении (класс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ирование умения ориентировки на плоскости (тетрадь, книг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415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витие основных мыслительных операций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выков соотносительного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выков группировки и классификации (на базе овладения основными родовыми понятиям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ия работать по словесной и письменной инструкции, алгорит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ия планировать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комбинаторных способ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витие различных видов мыш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наглядно-образного 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словесно-логического мышления (умение видеть и устанавливать логические связи между предметами, явлениями и событиям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витие навыков программирования и контроля собственной дея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уляция простейших двигательных а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умения ориентировки в зад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умения планирования этапов выполнения за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основных способов самоконтроля каждого этапа выполнения за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умения осуществлять словесный отчет о совершаемом действии и результа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26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ррекционные прие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 инструкции к заданию, образца: «Что мне нужно сделать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каждого шага предстоящей работы: «Что я буду делать сначала? Что я сделаю потом? Что мне нужно сделать дальше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ка работы: «Сравнение с образцо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хождение и исправление ошибок: «Что нужно исправить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чевая регуляция действий: «Как я выполнял работу?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ррекция нарушений в развитии эмоционально-личностной сфе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лаксационные упражнения для мимики 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ы-драмат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ситуации усп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4916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ррекционные приемы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 развитию пространственно-временной ориентиро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 руку по схеме способом на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 ногу по отпечатку следов на пе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с числовыми ряд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ческие дикта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иентировка в схеме собственного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иентировка в пространстве комнаты, на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пространственного расположения элементов бук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карточек-опор с названием дней недели, месяцев, времен года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Коррекционные приемы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о развитию произвольности внима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делить  склеенные между собой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ти повторяющиеся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по таблице Бурдона (зачеркнуть определенные букв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обучения детей с задержкой психического развития на основе индивидуальных образовательных програ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ситуации успеха при выполнении различных заданий с постепенным повышением уровня сложности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грация обучающихся с ограниченными возможностями здоровья в среду нормально развивающихся сверст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ивизация ресурсов семьи ребенка с задержкой психическ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ррекционные приемы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развитию памя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нировка произвольного запоминания зрительно воспринимаемых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льное запоминание слухового ряда: цифр, звуков, слов, предложений, многоступенчатых инструк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 предмет среди друг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опорных сх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труирование с закрытыми глаз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адай фигуру (на ощупь с закрытыми глаз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бери третье слово (яйцо-курица (цыпленок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568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ррекционные приемы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развитию мыслительных операц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зови одним слов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ключи лишне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общи по видовому поняти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скрой объем видового понят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танови временные и причинно-следственные зависимости (продолжи предложение: Мама выключила свет, потому что 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ление рассказов по наблюдениям в природе, по сюжетным карти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ление плана текста, экскурсии, по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исание предмета по картинному пла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24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ким образом, коррекционная работа с обучающимися с ЗПР базируется на следующих составляющи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ие до необходимого уровня психофизиологических функций, обеспечивающих готовность к обучению: артикуляционного аппарата, фонематического слуха, мелких мышц руки, оптико-пространственной ориентации, зрительно-моторной координации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огащение кругозора детей, формирование отчетливых, разносторонних представлений о предметах и явлениях окружающей действительности, которые способствуют осознанному восприятию ребенком учебн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оритет знаниям, полученным на основе практического опыта, т.к. эти знания обогащают содержание обучения непосредственными наблюдениями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ирование умений и навыков, необходимых для деятельности любого вида: ориентироваться в задании, планировать предстоящую работу, выполнять ее в соответствии с наглядным образцом и (или) словесными указаниями учителя, осуществлять самоконтроль и самооценку (общие (ключевые) компетенц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силение роли общеучебных и общепознавательных способов деятельности: умения наблюдать, анализировать, сравнивать, абстрагировать, обобщать, доказывать, классифицировать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поминать произвольно и опосредованно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ширение содержания учебной деятельности, требующего от детей интеллектуального нап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аптация содержания учебного материала, через очищение от сложности подробностей, выделение в каждой теме базового материала, подлежащего многократному закреплению, дифференцировка заданий в зависимости от коррекционных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бор, комбинация методов и приемов обучения с целью смены видов деятельности детей, изменения доминантного анализатора, включения в работу большинства анализаторов, использование ориентировочной основы действий (опорных сигналов, алгоритмов, образцов выполнения зада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гащение и систематизация словаря и развитие речи средствами всех учебных дисцип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пределе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ятие задержки психического развития употребляется по отношению к детям с минимальными органическими повреждениями или функциональной недостаточностью центральной нервной системы, а также длительно находящимися в условиях социальной деприв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24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держка психического развития представляет собой нарушение темпа всего психического развития при наличии значительных потенциальных возможност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нятие «ЗПР» подчеркивает временной (несоответствие уровня психического развития возрасту) и одновременно временный характер отставания (полностью или частично преодолевается под воздействием лечебных и педагогических факторов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онтексте медицинского подхода задержка психического развития рассматривается как синдром незрелости психических или психомоторных функций и как проявление замедленного созревания морфофункциональных систем мозга под влиянием неблагоприятных факто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Формы задержки психического развити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ержка психического развития конституционального происх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ержка психического развития соматогенного происх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ержка психического развития психогенного происх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ержка психического развития церебрально-органического происх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48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становка зада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дагог формулирует три типа зада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зова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спита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ррекционные (коррекционно-развивающ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56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разовательные задач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яют задачи усвоения учебного программного материала, овладения детьми определенными учебными знаниями, умениями и навы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улировка задач отражает содержание занятия (конкретност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реподаватель</cp:lastModifiedBy>
  <dcterms:modified xsi:type="dcterms:W3CDTF">2015-03-14T14:21:40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